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A34-E545-4146-ACC6-BA3FB04A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B54-7145-425F-8B82-095F658C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B6B-7571-46EE-B391-BF788A4B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80A-1732-498C-808A-E2885F88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A2B9-5B80-4D0D-9F86-AE776906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1101-4473-467E-A990-8A738B8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0B37-CB81-4C26-891E-80285D08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999F-8A9C-4611-B527-C8579718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EFDD-98F3-45A4-A69A-D52582C6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AD5C-F11E-4D6F-9C26-68D150AE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843C-33CC-4900-B4FB-5F408E9F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0D8-B9FA-44DE-9226-4300DE62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5B4C-3A5A-4582-9AAB-03E43AB6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2297-2224-4307-A36E-4807019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E935-5951-49A5-8545-FD4D7E0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EF1E-5F17-4D4C-99A3-7FF2DD81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B50A-76CF-42D0-9FDA-C553B791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1AA-567F-417E-9FDF-F57A159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E52-4160-4D73-9D1B-8200AEDB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306-E8E6-4958-AC58-3852E0C3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4EC-5B79-4B93-9436-0A960502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B4C-B6C0-46C4-8D80-4628FA9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1CE-C52A-4C79-9C4D-5482D601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3DB-71BF-46E1-BEE2-253B9310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AE6-1A6F-4396-82EF-AA7CF4618F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9479-F3BD-49AF-A19E-3A188F01FE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Steps to solving Punnett Square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ere are the Steps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key. Include both alle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“cross” to show the parents’ genotyp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arents’ genotypes (letters) around the outside of the squ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ll in the square- copy letters down and acro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ercentage chance for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ffspring’s geno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ercentage chance for the offspring’s pheno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#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certain species of mouse, pointed ears are dominant over round ea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the genotypes and phenotypes of a cross between two hybrid pointed-eared m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a key. Include both alleles.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= pointed 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= round 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a “cross” to show the parents’ genotypes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 one= P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 two= P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the parents’ genotypes (letters) around the outside of the square.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048120"/>
            <a:ext cx="4572000" cy="2971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666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20040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057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733920"/>
            <a:ext cx="733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Fill in the square- copy letters down and across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048120"/>
            <a:ext cx="4572000" cy="2971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66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20040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057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733920"/>
            <a:ext cx="733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505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809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038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181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55627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the percentage chance for the offspring’s genotyp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895480"/>
            <a:ext cx="4572000" cy="2971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343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514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04812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905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81280"/>
            <a:ext cx="733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3352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124080"/>
            <a:ext cx="2590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= PP (Homozygous 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= Pp (Heterozyg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= pp (Homozygous Rece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the percentage chance for the offspring’s phenotyp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48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5% chance of having Pointed 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y it yoursel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certain species of dog, a black nose is dominant over a pink no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the genotypes and phenotypes of a cross between a purebred dominant male dog and a purebred recessive fem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4:12:32Z</dcterms:created>
  <dc:creator>Tricia</dc:creator>
  <dc:description/>
  <dc:language>en-US</dc:language>
  <cp:lastModifiedBy>loyola</cp:lastModifiedBy>
  <dcterms:modified xsi:type="dcterms:W3CDTF">2007-02-21T17:39:45Z</dcterms:modified>
  <cp:revision>3</cp:revision>
  <dc:subject/>
  <dc:title>Steps to solving Punnett Squares</dc:title>
</cp:coreProperties>
</file>